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6BB-CF27-4709-8E00-9598908B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6C7-0DCE-40F2-81DC-EE992AEA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A0744-FB36-4ADC-88E0-C5305F9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62A58-B42C-44E1-8B66-0F22E4DB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43BF2-B6CA-49E6-A2F5-025A5614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2728E-1F5D-4587-A4FE-922B2746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DB8E2-DF9A-4A47-83AF-93F35EF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DFFCB-76ED-4280-8409-9A1A50E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722B9-4B4B-4A96-BA3B-87E8FF35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7D1B4-3CB3-4A9C-9EB2-3C5CC752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F2893-09CE-4F2D-8AD1-18D78E33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37C287-BFC6-41CF-8361-C148D6AD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7AE-0D5C-4AB4-9D16-FFCBFEEF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D0FB34-7621-4A49-8B08-EA0D90EF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18347-4D10-4F3C-96B2-4CA26282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EBAA2C-1E91-4363-B0D5-7108F5E8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782EDC-D061-43C3-AB22-18D500D8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858FB-CB45-44F0-86E3-C315215F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42AEDD-3853-4389-9632-1AC9549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8534E-2D56-4CB9-B9E8-2DD626B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2D8035-0BB0-405A-A362-9A1A700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39B52D-0B7A-4FB2-BF74-E0CFFAB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CC1227-C569-4EE9-AAAE-C26399DC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E2D-896A-496D-A703-625BFACC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024D2-4C35-4342-A15A-35CB1119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E66C8-43AC-437E-A1B8-1D457FE0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28093-8C5F-4E1F-A6A5-B5998117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E98C-8D09-4F86-B8CB-C9644F66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CAE1-D91F-4A2C-8F4C-A723843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38510-D1D9-4063-85E9-A83185E8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3CAEF-CC98-428C-8E14-2152A375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04A51-F24C-495A-8D4A-9FABE8E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69EC5-1450-4905-8622-D28DE08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DE13-E330-4946-98C4-4C86B4DE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D527-87F5-48FD-A923-6F632C0C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13A74-42E7-4051-8F79-A1CA615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D4CA2-625E-439F-B6E9-D1B1168A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627E-C023-4861-8AF0-E964E55D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52A8D-ECD5-442F-AA5D-BFBA0A38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300B2-401E-4F64-A751-7BFD164B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FF652-2DEB-4ACF-A5B6-D5E491E7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8D015-7D51-4C74-B4D5-95914D29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B0ABD-B4F5-44A5-B3BD-DA802D3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54E42-8FF7-4C7E-BB9E-A40F32E3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76975-313A-4537-9F46-8098F67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2468-2557-4315-80B7-ABD944F0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E9801-3D99-426B-835D-FA90F97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AA182-59DA-4CCB-81E8-6D5A92E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9ED39-7234-4225-BC88-0B03E6A3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5E17D-A9FD-4AEF-8B2A-422FEF00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53C63-FE19-4A14-99D2-9B368E26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160E4-CAEE-47E0-8F77-6118300B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E2BEF-6869-4611-BD0D-4FC02183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C3CA7-F63D-4BC5-9045-DAE8516C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446CF-0C14-4AA2-AAB5-2FA7C49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1BF05-8B40-4730-BCED-A04C425E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7AFF-5153-4880-8CC8-A63CBAA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A6B9F-4CE8-4A61-AB61-88541510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918D5-A927-42C9-A2ED-57686F14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FDCA1-6F99-41D7-9DF4-80C57DC7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93D00-D965-4017-9EBB-A894FD3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E6E87-31D0-4C08-8727-60B0751F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91970-09B7-4565-9294-FAEB069B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4886D-986D-4663-8A69-CC92B043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D32E3-9622-434F-83D3-2B4BA03D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F8624-8CC7-4202-9706-46304569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126D9-BB2A-41A4-B3D9-6ABC54EA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9B8E-378D-4440-9C97-2BB3E80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39EB6-9565-4B71-AE6D-FBA10FB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65EEA-44B3-4F1D-A2BB-D5E843B7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A2327-1F6E-48D0-B4A7-3164B4FF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69449-C114-4DFD-A073-F20033B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D4443-B1C1-43F7-A30A-4113CB1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5011A-E2E1-406F-A9AE-0C0342F1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40AB7-E284-48E0-B56A-F1809D41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20409-144C-4152-ACFC-C3C858A2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DB3BD-CE74-4ACD-808D-67DAD284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3CDD-A1D4-42C8-80D1-60528007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774-7D31-4115-A62A-DA7E4C73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A6EE-E4C8-4231-A70F-B14C744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250-D649-4B70-9C91-6F9B3FFD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F30D-7E98-4E03-9CFC-2A369F8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1482-6145-4D7A-A67C-65BAEC4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7EB2-CFF5-46CD-8D5B-B3D6FFE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7AA-C9F4-4CFD-A637-AA1B0388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CA49-27AC-4AC6-A2A7-DFD5FA3A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7AD84-C645-497B-912B-800DFADD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2177D-DC0B-4639-BCA0-A27A4CD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40D06-5CCE-4904-81EC-A2C3F40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6CF2E-4552-465E-AAA0-6E2733BC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82ECF-E57E-4446-893F-D43C76A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056-86E1-4DD1-9B20-F184555F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CB92A-429F-46F2-B2A7-67F94189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ED1BB-634E-425B-9DF8-1EB592E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6132B-B3E1-4B2B-9764-322DF11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D8458-6C5B-49E3-8AE5-4D347FD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FCA41-52E9-4CCB-9E13-7AF3A2C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FEB6F-903A-4F21-BBB8-B6A86011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C4F94-EC63-49F3-9C87-9DFFD059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5208-38D1-4371-B7A3-92E755B4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051A-02F6-42DB-A626-039FF93C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6AB4-24A9-45FA-BE80-A8F6EEDD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82F-B981-4A8A-B906-A16E0F3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AF390-0FBE-4AC2-8B97-4980A8D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EA0D-B112-4F4A-8547-E59E1076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F7D7-8DF7-4270-9893-B65BA59D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EA80-E9F8-4804-92B3-15111B7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1F6EA-D1AE-4113-8251-BC73CFA8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E6E0-B79F-4C52-BF4C-1FE5A70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76E9-EE0E-4333-B007-4347216B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B68C-093C-413D-A5F7-E67ECBDD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DD3A-4C3F-4E1F-A816-DC8637CB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5E34-215E-4455-ADDB-F3263982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12B-655A-493D-A8AA-D47B7C3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6B4E0-FC13-4ED1-8649-61DD685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E8CB-8115-4F2F-8F0F-014D10D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E897-D236-4F45-AB42-5F8C454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CB58-E2D3-4865-9DE2-AE83E7D7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E9F7-4D25-45AB-84F6-301DC4D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4DC0-EF09-488C-825F-9AB00C9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1FAE-5253-4690-8BBE-661FD13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0CB3-7E93-4F2F-A8ED-FA88E2C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C3C01-6FD1-4377-9745-0CC46B3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2CC6-F235-4A8C-B80E-F4B3BE47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9CA-E43C-4AFC-AAAD-1838F86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D9994-24D8-4FD9-97AA-B9D19986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9EBA4-8186-4A31-98F9-A1D94DE4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28625-A110-4A53-A3BE-D0603099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9175-8C9B-4C42-BAFA-436BBF58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34F4-1962-493F-80CF-47A8CB24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5CA94-1D23-4BDE-803E-7C473A7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19F87-17B2-44BC-B931-CCB6297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15C96-91DC-426B-B23B-6F5C96B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C609D-FFED-4F29-B447-A0A52BD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2EE21-918A-4D82-A124-F612397A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5AB-2F3C-4559-8708-4EEEA67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3461-2419-4E83-BFA8-7653FCF3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0E45-7EA1-400D-B43B-4D5B134A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24F6D-E03C-48F5-BEC4-66FB637C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C9DD2-23E5-4CFC-B738-B7363C92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CE8C-D7B5-4E45-A2F0-EBE9A14D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119C2-F51B-4952-896B-2A1EE4C5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9422-FA37-4D79-8C2A-6ADCF08D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55894-63F0-4AEF-943E-4F731A59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4B3B3-092D-43A5-B717-97B7B775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751C3-0DA1-471B-87F8-00042250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BEE-97DF-475A-9E86-EA1E5B8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0793F-99F8-42D2-9509-6C32A4E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2D6D-52C9-4D7D-8925-9CACCCE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F1074-2916-4446-9320-5373064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FA9B-8C5C-4FE6-B5B8-A8DD5091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7A459-9BC0-4CF3-A224-6ABCA84C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420BD-ADE5-4718-BD32-97185479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CDAD5-A52D-4958-815B-77FC6DF8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5A71A-24E6-4B42-AD8E-CA342C08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2B3F-C1D1-488A-8C78-3BA8EE16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D379D-DD3C-437E-845A-B2698CED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974-9C91-4474-AA2C-8880B93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9AB3-D9EC-467C-B8D6-C995CE23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A3436-7546-498B-9B78-2882F51E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174B-6A08-47FB-B70F-7A3C2B0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83B21-0278-41D9-AB14-AE5272F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99552-6180-43CE-B777-9B42939B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5EBA-614C-4E31-A279-B92B0703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3C130-56D0-4328-90F9-EBF5253F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EE71F-672E-4516-9A13-1A91DAB2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37B88-F555-4098-94A4-B468882F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FFFA2-CE3C-416E-95A3-1ED92885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C2B-11C9-4B36-8698-98B392E86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C09C-A9C6-46E9-B836-956A7F76E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0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1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0603-7001-4375-9189-D06C0115AB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5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7EF-ACBE-4498-8257-99754DCEEC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EFD-ECF0-4B76-A35C-E469717D13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EA9C-C210-4F96-ACF6-A98F9BA820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D332-83B2-4008-A8AE-87E5DA34B6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539-EEC4-4024-8DC7-42FEB41A1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3C51-AE95-4DCA-84C3-996F34E2D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B5C3-A3FD-4517-909C-0E0B8BE30CB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758C-C1D0-408D-BD0A-30881C7C493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BB4F-8641-40A1-B5AF-365F3B5364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2C3-5D2B-44E9-A739-C3E6F074BE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C6F-6BA3-42F2-8AF5-3F8B9B940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ущее стран ОП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пров Семен 232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ПИ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чему ОПЕК периодически сокращает добычу нефт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ЕК сокращает добычу нефти для того, чтобы не допустить падения цен на «чёрное золото» на мировом рынке. Естественно это благоприятный момент для России, хотя она и не состоит в данной организ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94920" y="-160920"/>
            <a:ext cx="84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588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ы ОПЕК буквально «кормя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р нефтью, но, разумеется с выгодой для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8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зумеется доля нефти стран экспортёров вел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желаю успехов в получении новых знаний!!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кое будущее у стран ОПЕК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то такое ОПЕК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103"/>
                </a:solidFill>
                <a:latin typeface="Arial Black"/>
              </a:rPr>
              <a:t>ОПЕК - ОРГАНИЗАЦИЯ СТРАН-ЭКСПОРТЕРОВ НЕФТ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(Organization of Petroleum Exporting Countries, OPEC) – международная экономическая организация, объединяющая большинство ведущих стран-экспортеров нефти. Регулирует объем добычи и цену нефти на мировом рынке. Члены ОПЕК контролируют 2/3 мировых запасов нефти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ервоначально в состав организации вошл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н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увей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аудовская Аравия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енесуэла (инициатор созд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6027480"/>
            <a:ext cx="7772400" cy="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240" bIns="21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"/>
          <p:cNvSpPr/>
          <p:nvPr/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 этим пяти странам, основавшим организацию, позднее присоединились ещё девять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тар (196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ндонезия (1962—2008, 1 ноября 2008 г. вышла из состава ОПЕК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ивия (1962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ъединённые Арабские Эмираты (196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лжир (1969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игерия (197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Эквадор (1973—1992, 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бон (1975—199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нгола (2007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"/>
          <p:cNvSpPr/>
          <p:nvPr/>
        </p:nvSpPr>
        <p:spPr>
          <a:xfrm>
            <a:off x="684360" y="-31608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8852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37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Штаб-квартира ОПЕК первоначально находилась в Женеве, позже перенесена в Вену. Дважды в год (не считая внеочередных событий) проходят конференции ОПЕК, на которых каждую страну представляет министр, отвечающий за добычу неф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270504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4680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долго существует ОПЕК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была создана в 1960 Ираном, Ираком, Кувейтом, Саудовской Аравией и Венесуэлой для координации их отношений с западными нефтеперерабатывающими компаниями. Как международная экономическая организация ОПЕК зарегистрирован в ООН 6 сентября 196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968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чего была создана организация ОПЕК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ОПЕК было вызвано стремлением стран – экспортеров нефти скоординировать усилия по предотвращению снижения мировых цен на неф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36:32Z</dcterms:created>
  <dc:creator>User</dc:creator>
  <dc:description/>
  <dc:language>en-US</dc:language>
  <cp:lastModifiedBy>07114</cp:lastModifiedBy>
  <dcterms:modified xsi:type="dcterms:W3CDTF">2009-11-27T07:42:30Z</dcterms:modified>
  <cp:revision>3</cp:revision>
  <dc:subject/>
  <dc:title>Будущее стран ОПЕК</dc:title>
</cp:coreProperties>
</file>